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BEA1-1A6A-4918-8DF6-72AF69A2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is wor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4FE0-A7DD-4CC2-B146-39679643BF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is work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CC5-453E-40E2-A03A-7C202B24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560-6A4E-4D3B-A0EE-C9F71C4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BB4-735A-4388-A7A4-78EF61A1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40D-2837-45F1-BF4E-C73C7C92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C12-BCB9-4F72-B2EA-32605947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942-FCB3-4EBA-A54C-0B79102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992-803E-473B-907D-22C43C65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D85-66B6-4190-922F-1A3F974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49E-28F2-4224-9128-E21A7EB8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657-6D90-47A8-AFF9-ACDC299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974-22B6-4AB4-8910-6826E42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C6F-BC29-4F57-AA48-07E0031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5A1-A52A-41DB-81AA-93EA55303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6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914400"/>
            <a:ext cx="8610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ject Worksheet Che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4343040" cy="685800"/>
            <a:chOff x="0" y="0"/>
            <a:chExt cx="4343040" cy="6858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022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027440" y="83160"/>
              <a:ext cx="331560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28600" y="214956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t out your project worksheet and I’ll be around to check step 4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5452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Project Worksheet Step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Due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389C8D8B-54D4-48A4-98B4-0FAF66351BDE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Describe two types of electrochemical cells (wet and dry) and identify their parts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914400"/>
            <a:ext cx="8610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ey Question Re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340000"/>
            <a:ext cx="8610480" cy="43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Key Questions 11-15 with a neighbor.  Complete the Key Question Peer Review Worksheet to provide them feedback on their Key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ng the peer review, spend a few minutes discussing your review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le Peer Review to your Key Questions and Turn-in to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Question Pee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58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Questions Written By:  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Questions Reviewed By:  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 Quick G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le the number of the questions that are answered completely: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    12     13     14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e the questions typed: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          No          S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most of the responses appear to be thorough enough?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s         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 Furth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nformation presented clear and easy to understa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any of the questions answered particularly wel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arts of the questions are not addressed or need to be developed in more detai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i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lear your desks of everything except a penci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610080"/>
            <a:ext cx="8382240" cy="30492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cience Quiz 3 &amp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Key Questions 11-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10 Point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ek 7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1448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ectromagnet Fishing Pole Project Due Wednesday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8:12:54Z</dcterms:created>
  <dc:creator>CCPS</dc:creator>
  <dc:description/>
  <dc:language>en-US</dc:language>
  <cp:lastModifiedBy>CCPS</cp:lastModifiedBy>
  <dcterms:modified xsi:type="dcterms:W3CDTF">2010-03-26T18:13:19Z</dcterms:modified>
  <cp:revision>1</cp:revision>
  <dc:subject/>
  <dc:title>Slide 1</dc:title>
</cp:coreProperties>
</file>